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0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FE85-084A-4B6B-9F54-BE2C9FC0B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3571-096E-4311-AF88-FBB0F773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1B585-D72F-4B6F-9540-DD400DD3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6C6CB-1302-4D96-A2CC-113F9218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E9A8F-0A6F-4D84-9D81-1D831BEA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61FF7-6EF2-481B-A307-EC5A14D7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9F0B1-C7B7-48DE-A08E-25D48670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8B0CF-7148-4B0B-B630-81F23C2D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0CEBE-4636-4ED5-AB6C-C0F665B8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9167C-44DB-4EC9-A70E-82B6AD1A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39467-A5CD-4E8C-BFA0-A92F0F24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4AB4-EE3C-42A9-AE90-588E3AF5C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272D-B013-413B-8437-61048E21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A344-D63B-4776-84D8-DAF94A1E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1051-7799-4997-A751-06B00D81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D5F8-F8EC-470F-9099-367FCE7D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593E-3C46-44D8-A86F-AE1DC4B9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CAE2-6AF2-47CE-BE26-B89C1C09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DFF7-DFEA-46B4-83A3-9AD7A5E5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2456-20A2-4FAE-BA55-F32C4F9E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B82E-9A02-48E4-9280-BD2300F0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4AD0-9712-4F81-AB93-7570FFF3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15CB-441B-4457-82BC-FE64CE9A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3713-8A56-431C-8974-40FC1779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CF1C-7713-4E8C-B13A-E397E33EB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8E97-BBD2-40EE-8903-A30102EF7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C9236-ED89-45AF-AF83-CA206076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75AF5-5451-4040-A24C-A86E3481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45C43-D8D7-4E86-AC79-9F76CD90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6EF8B-C73F-4430-96E5-323EE2D3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DFC07-304B-4D3F-967A-0780EFD4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8DED-0A55-464C-B00C-9BBB3FC0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76458-2FCC-49FB-AF6D-6850F174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8E2D9-E7AD-4817-84C1-F08B696A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C4FEB-0C2E-4B64-8D32-F1194B46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EB487-1775-4FA1-8550-FA4A5C8C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E6FE8-624B-499B-AF21-FB839C2B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85B74-04CE-4451-B39C-A7F2BA82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3404E-C205-4126-9E71-B25DD7BD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18851-C428-44AD-ABFA-243D510CB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8F39E-4332-4AFB-9CC4-D8CBBF0B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1FA44-8589-413A-8059-C5225106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9EA5-99C9-45CF-8C88-F06B24D1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3CC17-830F-4929-A702-915C0B59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C7F45-6BF8-4EA4-8491-CE7179BE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B990D-1665-434C-9AA3-6BC47A82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E4FFC-DB92-4BF2-BBAB-B0220FF1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E48C0-602F-47C5-B633-E0449C5C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61DFE-8B53-44EA-AB1F-485C46E2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27C34-85DC-4C89-9941-566B428E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46CA2-0142-4853-A9FE-31E3813C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0443A-AFE2-49B9-B4D5-B99AD7E8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27073-D0BD-475D-8103-23A79ED7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9D41-47D1-401B-B583-14C752F1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F2738-3F80-486F-B0ED-AC8B1EDA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FBB83-562A-481D-9BDB-153DC72D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158FE-69DE-4767-AC37-E65D71F4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948E7-55D6-4FE9-9EF4-E94B8ACD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1647F-643E-49FB-A790-B1F38956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C4FBF-C827-4348-81B7-632E4126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4596C-D371-4B1F-ACEF-3CA3CE48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43574-A435-448F-9453-426C11DC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67848-5391-47EF-A4B1-4B5FFEDC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57493-1152-4D7E-82A7-B71F9F2E0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A0D2-1DF8-4D48-8686-1BA9BE5B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897B5-91DD-47CB-AE2A-0C55164E4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B4DC4-42B1-4186-AD7D-15FE20BB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8123B-B9D3-4F85-AC25-0694E943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A7547-A9D7-4859-9FBB-B50A8250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42915-F0E7-4E5F-AB14-ADBB56BF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1C910-8CB3-464D-833F-78293E9F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4B3E4-9B3C-466C-8C38-4B46F3DD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04895-ACDB-4980-A8A4-4748BCB4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9CBC1-435B-410F-9D2D-FCA09650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915B2-F79C-41C3-B60D-E82F6027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F466-2266-463C-BF5B-17B6B6F6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D9CCF-4AD9-42B2-98B0-7FA07227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E4259-2FC9-491A-AE5C-8B655C072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76883-558F-45F9-8493-8B6DFF846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17988-22DE-4920-A5B1-0C374884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7D987-BA42-4CD1-B9AE-5BDE0073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14745-6B18-4365-81D7-A4D0FABE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82342-B50B-4F67-BC41-998A86BC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09C9B-D049-49D6-B039-C70B859D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43427-49CB-495D-ADC5-5EBDEA28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C75FA-B1B7-4BBD-BFCC-D77A2247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FA53-6395-4CF5-86FD-B93C7E40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F3690-1D4B-4745-B70C-AB89F55E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301C3-E46A-465F-B9CF-E95D8CE0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3938F-5311-4AD5-BDEB-03FACF3F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BBDB6-67B6-4DBA-B59A-C477051E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1666A-1025-4E36-9181-8C76A0F6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56533-2593-4BAB-A630-45C4CF15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79BE7-165C-476A-A330-8316BD92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614F5-1CBF-4C46-B52A-73F06D5C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B8F72-FC57-419C-AE87-AA65F789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EF2A3-647A-4708-989A-9E00E5C2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2323-963A-420B-976D-C01EB93E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D9340-C7D8-44FF-A734-A0A4AE81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82E7B-7775-4418-B10A-6FF97C30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241DC-79CC-4AF2-8395-EBEDD0F7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73572-A5FE-43CC-91DA-A37E6243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4999C-D3E2-4948-A58A-1817181B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46DF9-3503-4D0C-B576-D1FDCED4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4B1F8-2978-4E99-891D-9D918A016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3CA95-46BE-4965-8604-B9FF11A19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54E56-614C-4E14-9D22-02EF5BA1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0210A5-0A0C-4CAB-B011-01395BBA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1542-03CE-40B2-985F-932B6E9BEE7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7E42-00C7-424E-8E7D-70863E365F4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AAF4-E0C7-4DCC-BF50-31277449E63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EA8E-C654-4397-8C2D-38AFE6B75B9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9B29-B0D1-40AB-B3E2-E6AF609E65B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B9EA-0484-49D6-BC10-FB9ED9D22FD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93BA-E2FD-4731-B789-F96E0624363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105D-2B54-422B-B202-3176005EE63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C570-08F9-480B-A9F7-B5AA9733A92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extBox 4" descr=""/>
          <p:cNvPicPr/>
          <p:nvPr/>
        </p:nvPicPr>
        <p:blipFill>
          <a:blip r:embed="rId2"/>
          <a:stretch/>
        </p:blipFill>
        <p:spPr>
          <a:xfrm>
            <a:off x="244440" y="5589720"/>
            <a:ext cx="8661600" cy="1079280"/>
          </a:xfrm>
          <a:prstGeom prst="rect">
            <a:avLst/>
          </a:prstGeom>
          <a:ln w="0">
            <a:noFill/>
          </a:ln>
        </p:spPr>
      </p:pic>
      <p:sp>
        <p:nvSpPr>
          <p:cNvPr id="400" name="TextBox 2"/>
          <p:cNvSpPr/>
          <p:nvPr/>
        </p:nvSpPr>
        <p:spPr>
          <a:xfrm>
            <a:off x="0" y="115920"/>
            <a:ext cx="37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ыполнила: Коробкова Тая, обучающаяся 1А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Box 1"/>
          <p:cNvSpPr/>
          <p:nvPr/>
        </p:nvSpPr>
        <p:spPr>
          <a:xfrm>
            <a:off x="214200" y="271476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Ё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 СЕМ</a:t>
            </a: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Ё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Ч ЖИХАР</a:t>
            </a: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Ё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"/>
          <p:cNvSpPr/>
          <p:nvPr/>
        </p:nvSpPr>
        <p:spPr>
          <a:xfrm>
            <a:off x="4572000" y="2714760"/>
            <a:ext cx="350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 СЕМ</a:t>
            </a: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Ч ЖИХАР</a:t>
            </a: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3"/>
          <p:cNvSpPr/>
          <p:nvPr/>
        </p:nvSpPr>
        <p:spPr>
          <a:xfrm>
            <a:off x="4572000" y="414324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РОЛ</a:t>
            </a: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К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4"/>
          <p:cNvSpPr/>
          <p:nvPr/>
        </p:nvSpPr>
        <p:spPr>
          <a:xfrm>
            <a:off x="214200" y="414324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РОЛ</a:t>
            </a: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Ё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К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5"/>
          <p:cNvSpPr/>
          <p:nvPr/>
        </p:nvSpPr>
        <p:spPr>
          <a:xfrm>
            <a:off x="285840" y="157176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</a:t>
            </a: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Ё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6"/>
          <p:cNvSpPr/>
          <p:nvPr/>
        </p:nvSpPr>
        <p:spPr>
          <a:xfrm>
            <a:off x="4572000" y="157176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</a:t>
            </a: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1"/>
          <p:cNvSpPr/>
          <p:nvPr/>
        </p:nvSpPr>
        <p:spPr>
          <a:xfrm>
            <a:off x="428760" y="-131040"/>
            <a:ext cx="8286480" cy="1373760"/>
          </a:xfrm>
          <a:prstGeom prst="rect">
            <a:avLst/>
          </a:prstGeom>
          <a:gradFill rotWithShape="0">
            <a:gsLst>
              <a:gs pos="0">
                <a:srgbClr val="ede8dc"/>
              </a:gs>
              <a:gs pos="100000">
                <a:srgbClr val="c4b284"/>
              </a:gs>
            </a:gsLst>
            <a:lin ang="5400000"/>
          </a:gradFill>
          <a:ln w="10080">
            <a:solidFill>
              <a:srgbClr val="a19574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забывается буква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"/>
          <p:cNvSpPr/>
          <p:nvPr/>
        </p:nvSpPr>
        <p:spPr>
          <a:xfrm>
            <a:off x="7358040" y="557352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Ё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5"/>
          <p:cNvSpPr/>
          <p:nvPr/>
        </p:nvSpPr>
        <p:spPr>
          <a:xfrm>
            <a:off x="5214960" y="128592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6"/>
          <p:cNvSpPr/>
          <p:nvPr/>
        </p:nvSpPr>
        <p:spPr>
          <a:xfrm>
            <a:off x="7358040" y="12859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Ё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8"/>
          <p:cNvSpPr/>
          <p:nvPr/>
        </p:nvSpPr>
        <p:spPr>
          <a:xfrm>
            <a:off x="5214960" y="200016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9"/>
          <p:cNvSpPr/>
          <p:nvPr/>
        </p:nvSpPr>
        <p:spPr>
          <a:xfrm>
            <a:off x="7358040" y="200016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Ё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10"/>
          <p:cNvSpPr/>
          <p:nvPr/>
        </p:nvSpPr>
        <p:spPr>
          <a:xfrm>
            <a:off x="5214960" y="342900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12"/>
          <p:cNvSpPr/>
          <p:nvPr/>
        </p:nvSpPr>
        <p:spPr>
          <a:xfrm>
            <a:off x="7358040" y="342900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Ё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13"/>
          <p:cNvSpPr/>
          <p:nvPr/>
        </p:nvSpPr>
        <p:spPr>
          <a:xfrm>
            <a:off x="5214960" y="271476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14"/>
          <p:cNvSpPr/>
          <p:nvPr/>
        </p:nvSpPr>
        <p:spPr>
          <a:xfrm>
            <a:off x="7286760" y="271476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Ё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15"/>
          <p:cNvSpPr/>
          <p:nvPr/>
        </p:nvSpPr>
        <p:spPr>
          <a:xfrm>
            <a:off x="5214960" y="485784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17"/>
          <p:cNvSpPr/>
          <p:nvPr/>
        </p:nvSpPr>
        <p:spPr>
          <a:xfrm>
            <a:off x="7358040" y="485784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Ё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18"/>
          <p:cNvSpPr/>
          <p:nvPr/>
        </p:nvSpPr>
        <p:spPr>
          <a:xfrm>
            <a:off x="5214960" y="414324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19"/>
          <p:cNvSpPr/>
          <p:nvPr/>
        </p:nvSpPr>
        <p:spPr>
          <a:xfrm>
            <a:off x="7358040" y="414324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Ё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20"/>
          <p:cNvSpPr/>
          <p:nvPr/>
        </p:nvSpPr>
        <p:spPr>
          <a:xfrm>
            <a:off x="5214960" y="5643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21"/>
          <p:cNvSpPr/>
          <p:nvPr/>
        </p:nvSpPr>
        <p:spPr>
          <a:xfrm>
            <a:off x="285840" y="1285920"/>
            <a:ext cx="44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ЯЗАТЕЛЬНОСТЬ ПРИ ПИСЬ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22"/>
          <p:cNvSpPr/>
          <p:nvPr/>
        </p:nvSpPr>
        <p:spPr>
          <a:xfrm>
            <a:off x="285840" y="25718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10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1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12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12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1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1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15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1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6900"/>
                            </p:stCondLst>
                            <p:childTnLst>
                              <p:par>
                                <p:cTn id="1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Рисунок 1" descr="02987171.jpg"/>
          <p:cNvPicPr/>
          <p:nvPr/>
        </p:nvPicPr>
        <p:blipFill>
          <a:blip r:embed="rId1"/>
          <a:stretch/>
        </p:blipFill>
        <p:spPr>
          <a:xfrm>
            <a:off x="1914480" y="728640"/>
            <a:ext cx="5315040" cy="5400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TextBox 1" descr=""/>
          <p:cNvPicPr/>
          <p:nvPr/>
        </p:nvPicPr>
        <p:blipFill>
          <a:blip r:embed="rId1"/>
          <a:stretch/>
        </p:blipFill>
        <p:spPr>
          <a:xfrm>
            <a:off x="426960" y="1712880"/>
            <a:ext cx="8290080" cy="927000"/>
          </a:xfrm>
          <a:prstGeom prst="rect">
            <a:avLst/>
          </a:prstGeom>
          <a:ln w="0">
            <a:noFill/>
          </a:ln>
        </p:spPr>
      </p:pic>
      <p:pic>
        <p:nvPicPr>
          <p:cNvPr id="446" name="Rectangle 1" descr=""/>
          <p:cNvPicPr/>
          <p:nvPr/>
        </p:nvPicPr>
        <p:blipFill>
          <a:blip r:embed="rId2"/>
          <a:stretch/>
        </p:blipFill>
        <p:spPr>
          <a:xfrm>
            <a:off x="139680" y="3071880"/>
            <a:ext cx="8864640" cy="671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Рисунок 1" descr="kart.png"/>
          <p:cNvPicPr/>
          <p:nvPr/>
        </p:nvPicPr>
        <p:blipFill>
          <a:blip r:embed="rId1"/>
          <a:stretch/>
        </p:blipFill>
        <p:spPr>
          <a:xfrm>
            <a:off x="44280" y="692280"/>
            <a:ext cx="9055440" cy="5473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Рисунок 1" descr="p130_post-69385-1244783559.jpg"/>
          <p:cNvPicPr/>
          <p:nvPr/>
        </p:nvPicPr>
        <p:blipFill>
          <a:blip r:embed="rId1"/>
          <a:stretch/>
        </p:blipFill>
        <p:spPr>
          <a:xfrm>
            <a:off x="2281320" y="214200"/>
            <a:ext cx="4581360" cy="6408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Горизонтальный свиток 3"/>
          <p:cNvSpPr/>
          <p:nvPr/>
        </p:nvSpPr>
        <p:spPr>
          <a:xfrm>
            <a:off x="892080" y="3857760"/>
            <a:ext cx="7359840" cy="2214360"/>
          </a:xfrm>
          <a:prstGeom prst="horizontalScroll">
            <a:avLst>
              <a:gd name="adj" fmla="val 125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всё, что увидит, на шкаф тащит. Увидит спи?ки – на шкаф. Увидит ложку – … . Даже будил?ник …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Выноска-облако 6"/>
          <p:cNvSpPr/>
          <p:nvPr/>
        </p:nvSpPr>
        <p:spPr>
          <a:xfrm>
            <a:off x="463680" y="428760"/>
            <a:ext cx="8216640" cy="30715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99cc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7"/>
          <p:cNvSpPr/>
          <p:nvPr/>
        </p:nvSpPr>
        <p:spPr>
          <a:xfrm>
            <a:off x="1320840" y="785880"/>
            <a:ext cx="650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 ком из жителей Простоквашино этот отрывок? Как сделать текст понятным? Достаточно ли вставить пропущенные сло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8"/>
          <p:cNvSpPr/>
          <p:nvPr/>
        </p:nvSpPr>
        <p:spPr>
          <a:xfrm>
            <a:off x="1285920" y="9288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ё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Рисунок 1" descr="D:\Елена\Исследовательские работы\ёёё\молоко.jpg"/>
          <p:cNvPicPr/>
          <p:nvPr/>
        </p:nvPicPr>
        <p:blipFill>
          <a:blip r:embed="rId1"/>
          <a:stretch/>
        </p:blipFill>
        <p:spPr>
          <a:xfrm>
            <a:off x="179280" y="115920"/>
            <a:ext cx="5977080" cy="6410160"/>
          </a:xfrm>
          <a:prstGeom prst="rect">
            <a:avLst/>
          </a:prstGeom>
          <a:ln w="19080">
            <a:solidFill>
              <a:srgbClr val="ff0066"/>
            </a:solidFill>
            <a:miter/>
          </a:ln>
        </p:spPr>
      </p:pic>
      <p:graphicFrame>
        <p:nvGraphicFramePr>
          <p:cNvPr id="408" name=""/>
          <p:cNvGraphicFramePr/>
          <p:nvPr/>
        </p:nvGraphicFramePr>
        <p:xfrm>
          <a:off x="6443640" y="1484280"/>
          <a:ext cx="2327400" cy="2387520"/>
        </p:xfrm>
        <a:graphic>
          <a:graphicData uri="http://schemas.openxmlformats.org/drawingml/2006/table">
            <a:tbl>
              <a:tblPr/>
              <a:tblGrid>
                <a:gridCol w="2327400"/>
              </a:tblGrid>
              <a:tr h="2387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слове «даёт» чёрточка над «т» есть,  а точек над «е» – нет!!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1"/>
          <p:cNvSpPr/>
          <p:nvPr/>
        </p:nvSpPr>
        <p:spPr>
          <a:xfrm>
            <a:off x="0" y="4572000"/>
            <a:ext cx="914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06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3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06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исследования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, как отражается на развитии русского языка отказ от использования на письме буквы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5"/>
          <p:cNvSpPr/>
          <p:nvPr/>
        </p:nvSpPr>
        <p:spPr>
          <a:xfrm>
            <a:off x="0" y="85716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06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8"/>
          <p:cNvSpPr/>
          <p:nvPr/>
        </p:nvSpPr>
        <p:spPr>
          <a:xfrm>
            <a:off x="0" y="1785960"/>
            <a:ext cx="90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06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2806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ю, что если бы люди, владеющие русским языком, отдельные издательства газет, журналов при написании или печатании текстов всегда использовали букву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это избавило нас от неверного чтения, искажения русского языка. Эта работ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пытка доказать: ненужных букв в русском алфавите нет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9"/>
          <p:cNvSpPr/>
          <p:nvPr/>
        </p:nvSpPr>
        <p:spPr>
          <a:xfrm>
            <a:off x="0" y="4500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06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лфавит русского языка, а конкретно букв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Рисунок 13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4319640" cy="5400720"/>
          </a:xfrm>
          <a:prstGeom prst="rect">
            <a:avLst/>
          </a:prstGeom>
          <a:ln w="0">
            <a:noFill/>
          </a:ln>
        </p:spPr>
      </p:pic>
      <p:sp>
        <p:nvSpPr>
          <p:cNvPr id="415" name="TextBox 2"/>
          <p:cNvSpPr/>
          <p:nvPr/>
        </p:nvSpPr>
        <p:spPr>
          <a:xfrm>
            <a:off x="4572000" y="571680"/>
            <a:ext cx="4572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ор Петербургской академии наук княгин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атерина Романовна Даш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1"/>
          <p:cNvSpPr/>
          <p:nvPr/>
        </p:nvSpPr>
        <p:spPr>
          <a:xfrm>
            <a:off x="443520" y="295200"/>
            <a:ext cx="8401320" cy="520560"/>
          </a:xfrm>
          <a:prstGeom prst="rect">
            <a:avLst/>
          </a:prstGeom>
          <a:gradFill rotWithShape="0">
            <a:gsLst>
              <a:gs pos="0">
                <a:srgbClr val="ede8dc"/>
              </a:gs>
              <a:gs pos="100000">
                <a:srgbClr val="c4b284"/>
              </a:gs>
            </a:gsLst>
            <a:lin ang="5400000"/>
          </a:gradFill>
          <a:ln w="10080">
            <a:solidFill>
              <a:srgbClr val="a19574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ли сохранять букву «Ё» в русском алфави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Рисунок 2" descr="x_6874f2c4.jpg"/>
          <p:cNvPicPr/>
          <p:nvPr/>
        </p:nvPicPr>
        <p:blipFill>
          <a:blip r:embed="rId1"/>
          <a:stretch/>
        </p:blipFill>
        <p:spPr>
          <a:xfrm>
            <a:off x="255600" y="963720"/>
            <a:ext cx="4297320" cy="5327640"/>
          </a:xfrm>
          <a:prstGeom prst="rect">
            <a:avLst/>
          </a:prstGeom>
          <a:ln w="0">
            <a:noFill/>
          </a:ln>
        </p:spPr>
      </p:pic>
      <p:sp>
        <p:nvSpPr>
          <p:cNvPr id="418" name="TextBox 3"/>
          <p:cNvSpPr/>
          <p:nvPr/>
        </p:nvSpPr>
        <p:spPr>
          <a:xfrm>
            <a:off x="4643280" y="2143080"/>
            <a:ext cx="435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м больше в языке графических знаков, тем легче он при чтении, так как каждое слово становится характернее, индивидуальнее, приобретает определённую физиономию… Интересы чтения должны возобладать над интересами письма (пишет книгу один, а читают 30000 в продолжение около 50 лет)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"/>
          <p:cNvSpPr/>
          <p:nvPr/>
        </p:nvSpPr>
        <p:spPr>
          <a:xfrm>
            <a:off x="4643280" y="1071720"/>
            <a:ext cx="43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адем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митрий Сергеевич Лихаче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1"/>
          <p:cNvSpPr/>
          <p:nvPr/>
        </p:nvSpPr>
        <p:spPr>
          <a:xfrm>
            <a:off x="214200" y="642960"/>
            <a:ext cx="87868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Ё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Е   ВЕС</a:t>
            </a: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Ё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Е СМЫШЛ</a:t>
            </a: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Ё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Е   Л</a:t>
            </a: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Ё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КОЕ ТВ</a:t>
            </a: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Ё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ДОЕ   ЯДР</a:t>
            </a: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Ё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Е  КЛ</a:t>
            </a: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Ё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   МУДР</a:t>
            </a: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Ё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Е  НАД</a:t>
            </a: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Ё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НОЕ  СЕРЬ</a:t>
            </a: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Ё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ОЕ  Ж</a:t>
            </a: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Ё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ТОЕ  ЗЕЛ</a:t>
            </a: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Ё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Е  ТЯЖ</a:t>
            </a: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Ё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04:26:43Z</dcterms:created>
  <dc:creator>ШЕВ</dc:creator>
  <dc:description/>
  <cp:keywords>буква ё</cp:keywords>
  <dc:language>en-US</dc:language>
  <cp:lastModifiedBy>RePack by Diakov</cp:lastModifiedBy>
  <cp:lastPrinted>2016-05-13T05:31:15Z</cp:lastPrinted>
  <dcterms:modified xsi:type="dcterms:W3CDTF">2016-05-17T05:09:59Z</dcterms:modified>
  <cp:revision>41</cp:revision>
  <dc:subject>Буква Ё</dc:subject>
  <dc:title>Без буквы Ё словарь не ёмо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Валерия">
    <vt:lpwstr>НОУ "Первые шаги"</vt:lpwstr>
  </property>
</Properties>
</file>