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0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0F4F-4501-4129-BF4D-686E8774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B171-1494-4F5A-971F-68FBADC1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BFBD-C454-4426-BE10-A60ADB69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1117-57D8-4C33-B94B-509E87EE2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63C7-8E68-4034-A0AA-81FAF7D2F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4824-238D-4EC6-AE0C-1DD7DD12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34CE-C1B9-4133-A0F7-7096F2F1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F687-C82E-441E-B47C-B9E0365F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6EF2-9429-4ED0-BDC3-60D482A0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8986-9AD0-406D-8232-0DAA992C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EA02-9821-4907-8FF1-B151E669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6971-7C2C-462E-B200-57EBBCD6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3CA8-FBAB-406B-843F-7EA37850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5076-4AB1-43B0-A8E4-1B974EA3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FEF8-25C7-480D-BDD0-2445D32D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D10C-0FF5-4F8C-A266-90901083F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7358-E9BB-4AAD-91EB-423B953B2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A5D3A-2DB1-418D-B1DF-16C9DA22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81D4D-DA27-453A-ABF0-299BC963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6AA16-3193-4FCB-9F3E-F5436198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21ABF-3923-4BDF-9F3F-32135146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688BE-D5AF-4C3B-83F6-C7261454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922F-9AAF-429D-A9FC-E158C473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03F17-F85C-4B30-9F40-0F2E1DEA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43656-65C4-4F5A-A5B2-0DCF9BD1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DD370-CE54-4C3B-8CC5-7E43C72D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B4592-3EC1-4969-B858-F855A307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BFAFD-C3EE-4388-8793-9050D1DD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9B30A-3001-4647-8EFA-3F0696241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C0F97-E29E-4B40-AE30-550A5C70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5F149-944F-49CA-96F2-53EEA2856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72F72-0ADA-45FD-9CAE-CB71350D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5F8B1-0817-4059-BAF9-C35F883C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17E4-E236-437A-8709-EAB86B50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8D7E3-1A14-4E91-97ED-DF586599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DEB3D-741C-45B7-8994-B177FFE4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B90C0-4A16-4095-A6DE-D51D5DF2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0BDD8-9F8F-4F51-8551-1C6AD53A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820A8-D310-4052-97B9-93E0424C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3A21B-0058-4BDA-8CEF-7A21BB5D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48555-6C98-40F4-A125-FCC6BC19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F3AD0-BBF4-4CCF-8280-718AFBA15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FFEA2-265A-4C79-A686-DBC2B75C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B52E-E714-4820-BC97-0F173736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23B0-833C-4B03-9009-E618673D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9CB0-9332-4097-A450-A0B21531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9EC6-D2F0-416E-B115-3AA29CCC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CDBB-BACB-4E4A-8A68-F0C688E6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2880-5F47-4344-835A-36BAB740692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863C-0CA0-4644-8B0D-95BB0B06BD5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1740-D974-4414-AA80-632F8353907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CDE9-6903-4D1D-A217-E2D02615E6D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extBox 1" descr=""/>
          <p:cNvPicPr/>
          <p:nvPr/>
        </p:nvPicPr>
        <p:blipFill>
          <a:blip r:embed="rId1"/>
          <a:stretch/>
        </p:blipFill>
        <p:spPr>
          <a:xfrm>
            <a:off x="1006560" y="79200"/>
            <a:ext cx="6973920" cy="18226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http://im6-tub-ru.yandex.net/i?id=585824687-46-72&amp;n=21"/>
          <p:cNvPicPr/>
          <p:nvPr/>
        </p:nvPicPr>
        <p:blipFill>
          <a:blip r:embed="rId2"/>
          <a:stretch/>
        </p:blipFill>
        <p:spPr>
          <a:xfrm>
            <a:off x="1547640" y="2133720"/>
            <a:ext cx="590400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-299520"/>
            <a:ext cx="914400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  <a:ea typeface="Calibri"/>
              </a:rPr>
              <a:t>Заря чуть теплилась под туч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  <a:ea typeface="Calibri"/>
              </a:rPr>
              <a:t>Полоской алого огн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А из лощин, где распускалис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Во тьме цветы, и из сад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Лились и в чащах отдавалис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Все ярче песни соловье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http://img1.liveinternet.ru/images/attach/c/4/79/14/79014625_616029.jpg"/>
          <p:cNvPicPr/>
          <p:nvPr/>
        </p:nvPicPr>
        <p:blipFill>
          <a:blip r:embed="rId1"/>
          <a:stretch/>
        </p:blipFill>
        <p:spPr>
          <a:xfrm>
            <a:off x="3924360" y="3068640"/>
            <a:ext cx="5040360" cy="3510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http://new.tlt.ru/uploads/2013/11/363decd48fc12e84f2df2d348e7372df_x1024.jpg"/>
          <p:cNvPicPr/>
          <p:nvPr/>
        </p:nvPicPr>
        <p:blipFill>
          <a:blip r:embed="rId2"/>
          <a:stretch/>
        </p:blipFill>
        <p:spPr>
          <a:xfrm>
            <a:off x="324000" y="333360"/>
            <a:ext cx="4103640" cy="3282840"/>
          </a:xfrm>
          <a:prstGeom prst="rect">
            <a:avLst/>
          </a:prstGeom>
          <a:ln w="0">
            <a:noFill/>
          </a:ln>
        </p:spPr>
      </p:pic>
      <p:sp>
        <p:nvSpPr>
          <p:cNvPr id="199" name="TextBox 5"/>
          <p:cNvSpPr/>
          <p:nvPr/>
        </p:nvSpPr>
        <p:spPr>
          <a:xfrm>
            <a:off x="5076720" y="90792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onstantia"/>
              </a:rPr>
              <a:t>Цап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Голоса птиц – крик цапли (www.petamusic.ru).mp3" descr=""/>
          <p:cNvPicPr/>
          <p:nvPr/>
        </p:nvPicPr>
        <p:blipFill>
          <a:blip r:embed="rId3"/>
          <a:stretch/>
        </p:blipFill>
        <p:spPr>
          <a:xfrm>
            <a:off x="39528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513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http://www.kolkatabirds.com/sgoriole.jpg"/>
          <p:cNvPicPr/>
          <p:nvPr/>
        </p:nvPicPr>
        <p:blipFill>
          <a:blip r:embed="rId1"/>
          <a:stretch/>
        </p:blipFill>
        <p:spPr>
          <a:xfrm>
            <a:off x="304920" y="330120"/>
            <a:ext cx="8299440" cy="6123240"/>
          </a:xfrm>
          <a:prstGeom prst="rect">
            <a:avLst/>
          </a:prstGeom>
          <a:ln w="0">
            <a:noFill/>
          </a:ln>
        </p:spPr>
      </p:pic>
      <p:sp>
        <p:nvSpPr>
          <p:cNvPr id="202" name="TextBox 2"/>
          <p:cNvSpPr/>
          <p:nvPr/>
        </p:nvSpPr>
        <p:spPr>
          <a:xfrm>
            <a:off x="1116000" y="692280"/>
            <a:ext cx="37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onstantia"/>
              </a:rPr>
              <a:t>Ивол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Голоса птиц – Иволга (www.petamusic.ru).mp3" descr=""/>
          <p:cNvPicPr/>
          <p:nvPr/>
        </p:nvPicPr>
        <p:blipFill>
          <a:blip r:embed="rId2"/>
          <a:stretch/>
        </p:blipFill>
        <p:spPr>
          <a:xfrm>
            <a:off x="88390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8076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http://f3.s.qip.ru/hT9jRKsF.jpg"/>
          <p:cNvPicPr/>
          <p:nvPr/>
        </p:nvPicPr>
        <p:blipFill>
          <a:blip r:embed="rId1"/>
          <a:stretch/>
        </p:blipFill>
        <p:spPr>
          <a:xfrm>
            <a:off x="0" y="278136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http://www.floranimal-net.ru/images/57.jpg"/>
          <p:cNvPicPr/>
          <p:nvPr/>
        </p:nvPicPr>
        <p:blipFill>
          <a:blip r:embed="rId2"/>
          <a:stretch/>
        </p:blipFill>
        <p:spPr>
          <a:xfrm>
            <a:off x="5003640" y="260280"/>
            <a:ext cx="3810240" cy="2667240"/>
          </a:xfrm>
          <a:prstGeom prst="rect">
            <a:avLst/>
          </a:prstGeom>
          <a:ln w="0">
            <a:noFill/>
          </a:ln>
        </p:spPr>
      </p:pic>
      <p:sp>
        <p:nvSpPr>
          <p:cNvPr id="206" name="TextBox 4"/>
          <p:cNvSpPr/>
          <p:nvPr/>
        </p:nvSpPr>
        <p:spPr>
          <a:xfrm>
            <a:off x="684360" y="40464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Constantia"/>
              </a:rPr>
              <a:t>Лебедь - шипу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27_027Leb-shipun.mp3" descr=""/>
          <p:cNvPicPr/>
          <p:nvPr/>
        </p:nvPicPr>
        <p:blipFill>
          <a:blip r:embed="rId3"/>
          <a:stretch/>
        </p:blipFill>
        <p:spPr>
          <a:xfrm>
            <a:off x="8604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73340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http://feo.ua/news_thumbs/knf71d33eeedcb4835dccf8646e9f938416_350.jpg"/>
          <p:cNvPicPr/>
          <p:nvPr/>
        </p:nvPicPr>
        <p:blipFill>
          <a:blip r:embed="rId1"/>
          <a:stretch/>
        </p:blipFill>
        <p:spPr>
          <a:xfrm>
            <a:off x="468360" y="404640"/>
            <a:ext cx="3333600" cy="21528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http://bodoga.ru/foto/19/filin_ptica_les_1680x1050.jpg"/>
          <p:cNvPicPr/>
          <p:nvPr/>
        </p:nvPicPr>
        <p:blipFill>
          <a:blip r:embed="rId2"/>
          <a:stretch/>
        </p:blipFill>
        <p:spPr>
          <a:xfrm>
            <a:off x="2771640" y="2781360"/>
            <a:ext cx="6220080" cy="3886200"/>
          </a:xfrm>
          <a:prstGeom prst="rect">
            <a:avLst/>
          </a:prstGeom>
          <a:ln w="0">
            <a:noFill/>
          </a:ln>
        </p:spPr>
      </p:pic>
      <p:sp>
        <p:nvSpPr>
          <p:cNvPr id="210" name="TextBox 3"/>
          <p:cNvSpPr/>
          <p:nvPr/>
        </p:nvSpPr>
        <p:spPr>
          <a:xfrm>
            <a:off x="4356000" y="69228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onstantia"/>
              </a:rPr>
              <a:t>Фил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голоса птиц – филин обыкновенный (www.petamusic.ru).mp3" descr=""/>
          <p:cNvPicPr/>
          <p:nvPr/>
        </p:nvPicPr>
        <p:blipFill>
          <a:blip r:embed="rId3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64625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http://img1.liveinternet.ru/images/attach/c/5/86/710/86710559_0930f8e3490b7f0bdf370380aa7e7d1b.jpg"/>
          <p:cNvPicPr/>
          <p:nvPr/>
        </p:nvPicPr>
        <p:blipFill>
          <a:blip r:embed="rId1"/>
          <a:stretch/>
        </p:blipFill>
        <p:spPr>
          <a:xfrm>
            <a:off x="250920" y="260280"/>
            <a:ext cx="3744720" cy="50594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http://www.linzik.com/uploads/posts/pics/Ptichi_gonki_voorujenii_ili_Kak_jertvi_kukushek_uchatsya_.jpg"/>
          <p:cNvPicPr/>
          <p:nvPr/>
        </p:nvPicPr>
        <p:blipFill>
          <a:blip r:embed="rId2"/>
          <a:stretch/>
        </p:blipFill>
        <p:spPr>
          <a:xfrm>
            <a:off x="4067280" y="3497400"/>
            <a:ext cx="4851360" cy="3208320"/>
          </a:xfrm>
          <a:prstGeom prst="rect">
            <a:avLst/>
          </a:prstGeom>
          <a:ln w="0">
            <a:noFill/>
          </a:ln>
        </p:spPr>
      </p:pic>
      <p:sp>
        <p:nvSpPr>
          <p:cNvPr id="214" name="TextBox 3"/>
          <p:cNvSpPr/>
          <p:nvPr/>
        </p:nvSpPr>
        <p:spPr>
          <a:xfrm>
            <a:off x="4643280" y="6922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onstantia"/>
              </a:rPr>
              <a:t>Куку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кукушка - копия.mp3" descr=""/>
          <p:cNvPicPr/>
          <p:nvPr/>
        </p:nvPicPr>
        <p:blipFill>
          <a:blip r:embed="rId3"/>
          <a:stretch/>
        </p:blipFill>
        <p:spPr>
          <a:xfrm>
            <a:off x="53964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3536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http://s014.radikal.ru/i328/1010/68/bb23e57b48b8.jpg"/>
          <p:cNvPicPr/>
          <p:nvPr/>
        </p:nvPicPr>
        <p:blipFill>
          <a:blip r:embed="rId1"/>
          <a:stretch/>
        </p:blipFill>
        <p:spPr>
          <a:xfrm>
            <a:off x="250920" y="2781360"/>
            <a:ext cx="5209920" cy="3886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http://1001fact.ru/wp-content/uploads/2013/09/Flamingo_3.jpg"/>
          <p:cNvPicPr/>
          <p:nvPr/>
        </p:nvPicPr>
        <p:blipFill>
          <a:blip r:embed="rId2"/>
          <a:srcRect l="6018" t="0" r="6077" b="8061"/>
          <a:stretch/>
        </p:blipFill>
        <p:spPr>
          <a:xfrm>
            <a:off x="4464000" y="0"/>
            <a:ext cx="4680000" cy="35733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468360" y="476280"/>
            <a:ext cx="359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nstantia"/>
              </a:rPr>
              <a:t>Розовый фламин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Голоса птиц – Розовый фламинго (www.petamusic.ru).mp3" descr=""/>
          <p:cNvPicPr/>
          <p:nvPr/>
        </p:nvPicPr>
        <p:blipFill>
          <a:blip r:embed="rId3"/>
          <a:stretch/>
        </p:blipFill>
        <p:spPr>
          <a:xfrm>
            <a:off x="8317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68750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http://static.ngs.ru/news/preview/48102de1253c46fca2fa2ca5c1731e2105c3e352_700.jpg"/>
          <p:cNvPicPr/>
          <p:nvPr/>
        </p:nvPicPr>
        <p:blipFill>
          <a:blip r:embed="rId1"/>
          <a:stretch/>
        </p:blipFill>
        <p:spPr>
          <a:xfrm>
            <a:off x="3492360" y="2781360"/>
            <a:ext cx="5438880" cy="3886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http://im2-tub-ru.yandex.net/i?id=123596038-24-72&amp;n=21"/>
          <p:cNvPicPr/>
          <p:nvPr/>
        </p:nvPicPr>
        <p:blipFill>
          <a:blip r:embed="rId2"/>
          <a:stretch/>
        </p:blipFill>
        <p:spPr>
          <a:xfrm>
            <a:off x="0" y="0"/>
            <a:ext cx="4189320" cy="2781360"/>
          </a:xfrm>
          <a:prstGeom prst="rect">
            <a:avLst/>
          </a:prstGeom>
          <a:ln w="0">
            <a:noFill/>
          </a:ln>
        </p:spPr>
      </p:pic>
      <p:sp>
        <p:nvSpPr>
          <p:cNvPr id="222" name="TextBox 5"/>
          <p:cNvSpPr/>
          <p:nvPr/>
        </p:nvSpPr>
        <p:spPr>
          <a:xfrm>
            <a:off x="4859280" y="549360"/>
            <a:ext cx="38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Constantia"/>
              </a:rPr>
              <a:t>Гал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Управляющая кнопка: звук 8"/>
          <p:cNvSpPr/>
          <p:nvPr/>
        </p:nvSpPr>
        <p:spPr>
          <a:xfrm>
            <a:off x="611280" y="551664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8406"/>
                </a:moveTo>
                <a:lnTo>
                  <a:pt x="10927" y="8406"/>
                </a:lnTo>
                <a:lnTo>
                  <a:pt x="15349" y="3794"/>
                </a:lnTo>
                <a:lnTo>
                  <a:pt x="15349" y="17806"/>
                </a:lnTo>
                <a:lnTo>
                  <a:pt x="10927" y="13194"/>
                </a:lnTo>
                <a:lnTo>
                  <a:pt x="6497" y="13194"/>
                </a:lnTo>
                <a:close/>
              </a:path>
              <a:path fill="darken" w="27007" h="21600">
                <a:moveTo>
                  <a:pt x="17002" y="10800"/>
                </a:moveTo>
                <a:lnTo>
                  <a:pt x="20510" y="10800"/>
                </a:lnTo>
              </a:path>
              <a:path fill="darken" w="27007" h="21600">
                <a:moveTo>
                  <a:pt x="17002" y="8406"/>
                </a:moveTo>
                <a:lnTo>
                  <a:pt x="20510" y="5639"/>
                </a:lnTo>
              </a:path>
              <a:path fill="darken" w="27007" h="21600">
                <a:moveTo>
                  <a:pt x="17002" y="13194"/>
                </a:moveTo>
                <a:lnTo>
                  <a:pt x="20510" y="15961"/>
                </a:lnTo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http://900igr.net/datai/okruzhajuschij-mir/Okruzhajuschij-mir-Ptitsy/0011-024-Lastochka.jpg"/>
          <p:cNvPicPr/>
          <p:nvPr/>
        </p:nvPicPr>
        <p:blipFill>
          <a:blip r:embed="rId1"/>
          <a:stretch/>
        </p:blipFill>
        <p:spPr>
          <a:xfrm>
            <a:off x="0" y="0"/>
            <a:ext cx="5305320" cy="3886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http://cdn2.arkive.org/media/F8/F839E8F8-17EE-45D3-BDD0-32C17722D795/Presentation.Large/Common-nightingale-with-prey-in-beak.jpg"/>
          <p:cNvPicPr/>
          <p:nvPr/>
        </p:nvPicPr>
        <p:blipFill>
          <a:blip r:embed="rId2"/>
          <a:stretch/>
        </p:blipFill>
        <p:spPr>
          <a:xfrm>
            <a:off x="2987640" y="2781360"/>
            <a:ext cx="5943600" cy="38862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4"/>
          <p:cNvSpPr/>
          <p:nvPr/>
        </p:nvSpPr>
        <p:spPr>
          <a:xfrm>
            <a:off x="5580000" y="549360"/>
            <a:ext cx="35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nstantia"/>
              </a:rPr>
              <a:t>Солов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Голоса птиц – Соловей (весна) (www.petamusic.ru).mp3" descr=""/>
          <p:cNvPicPr/>
          <p:nvPr/>
        </p:nvPicPr>
        <p:blipFill>
          <a:blip r:embed="rId3"/>
          <a:stretch/>
        </p:blipFill>
        <p:spPr>
          <a:xfrm>
            <a:off x="324000" y="4149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70688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3T14:52:37Z</dcterms:created>
  <dc:creator>Нач. классы</dc:creator>
  <dc:description/>
  <dc:language>en-US</dc:language>
  <cp:lastModifiedBy>Дмитрий</cp:lastModifiedBy>
  <dcterms:modified xsi:type="dcterms:W3CDTF">2015-10-11T17:31:15Z</dcterms:modified>
  <cp:revision>28</cp:revision>
  <dc:subject/>
  <dc:title>Слайд 1</dc:title>
</cp:coreProperties>
</file>