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6F5-9A23-479D-B6CE-BDE9280C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15F-BEBA-4AFE-A26E-650A6AC1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B18-605D-42C3-B3DB-8B675537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4C9-DD19-4C8E-A6D7-B78AF8A4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FAC-D4F2-4862-BAE1-2EE7D36C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C08-DC9C-4E55-8E23-819CE5EE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C89-6348-46A2-8043-54B7F9F6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336-EB93-4A5F-BE42-4DC782CC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DF4-6357-4F94-9693-5212B724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ECD-A0DB-4F7A-A09F-CD7C16F4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23B-C0DD-4B5D-9CA0-AEBAF16B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33A-0B16-4B2D-8863-417C1F6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DCCA-C1F8-40FB-83C9-0D6E756CF8A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1485720"/>
            <a:ext cx="6858000" cy="1006200"/>
          </a:xfrm>
          <a:prstGeom prst="rect">
            <a:avLst/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Россия, Родина моя!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44800" y="4185720"/>
            <a:ext cx="4398840" cy="126684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ас общения в 4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лассный руководитель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стова Ольга Васи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2232000" y="615240"/>
            <a:ext cx="56847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* * 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– русский! Спасибо, Господи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– поле. Бабушкин крес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– избы Рязанской област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– синь подпирающий ле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– русский! По самое горлышко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еки веков. Насквоз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– лебедя белого пёрышко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– воина павшего кос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б не выпали горест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м бедам хриплю назло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– русский! Спасибо, Господи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– русский. Мне так повезло!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времени кружатся лопаст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я у меня – не отня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я, как крепость над пропастью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яла и будет стоять!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гей Каргаш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19600" y="1311120"/>
            <a:ext cx="73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А что для вас  значит слово «Родина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25000" y="2159640"/>
            <a:ext cx="61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Кого можно считать патриот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80800" y="2991600"/>
            <a:ext cx="84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Как можно проявить свою любовь к Роди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35720" y="1390680"/>
            <a:ext cx="87152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без Родины 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соловей без песн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сская послов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700200" y="5264280"/>
            <a:ext cx="51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дание: Соберите послов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Управляющая кнопка: сведения 3"/>
          <p:cNvSpPr/>
          <p:nvPr/>
        </p:nvSpPr>
        <p:spPr>
          <a:xfrm>
            <a:off x="8131320" y="6095880"/>
            <a:ext cx="741240" cy="622440"/>
          </a:xfrm>
          <a:custGeom>
            <a:avLst/>
            <a:gdLst>
              <a:gd name="textAreaLeft" fmla="*/ 40320 w 741240"/>
              <a:gd name="textAreaRight" fmla="*/ 700920 w 741240"/>
              <a:gd name="textAreaTop" fmla="*/ 40320 h 622440"/>
              <a:gd name="textAreaBottom" fmla="*/ 582120 h 622440"/>
            </a:gdLst>
            <a:ahLst/>
            <a:rect l="textAreaLeft" t="textAreaTop" r="textAreaRight" b="textAreaBottom"/>
            <a:pathLst>
              <a:path w="25720" h="21600">
                <a:moveTo>
                  <a:pt x="0" y="0"/>
                </a:moveTo>
                <a:lnTo>
                  <a:pt x="25720" y="0"/>
                </a:lnTo>
                <a:lnTo>
                  <a:pt x="25720" y="21600"/>
                </a:lnTo>
                <a:lnTo>
                  <a:pt x="0" y="21600"/>
                </a:lnTo>
                <a:close/>
              </a:path>
              <a:path fill="lightenLess" w="25720" h="21600">
                <a:moveTo>
                  <a:pt x="0" y="0"/>
                </a:moveTo>
                <a:lnTo>
                  <a:pt x="25720" y="0"/>
                </a:lnTo>
                <a:lnTo>
                  <a:pt x="24320" y="1400"/>
                </a:lnTo>
                <a:lnTo>
                  <a:pt x="1400" y="1400"/>
                </a:lnTo>
                <a:close/>
              </a:path>
              <a:path fill="darken" w="25720" h="21600">
                <a:moveTo>
                  <a:pt x="25720" y="0"/>
                </a:moveTo>
                <a:lnTo>
                  <a:pt x="25720" y="21600"/>
                </a:lnTo>
                <a:lnTo>
                  <a:pt x="24320" y="20200"/>
                </a:lnTo>
                <a:lnTo>
                  <a:pt x="24320" y="1400"/>
                </a:lnTo>
                <a:close/>
              </a:path>
              <a:path fill="darkenLess" w="25720" h="21600">
                <a:moveTo>
                  <a:pt x="25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0" y="20200"/>
                </a:lnTo>
                <a:close/>
              </a:path>
              <a:path fill="lighten" w="25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0" h="21600">
                <a:moveTo>
                  <a:pt x="1286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720" h="21600">
                <a:moveTo>
                  <a:pt x="1286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720" h="21600">
                <a:moveTo>
                  <a:pt x="10284" y="8224"/>
                </a:moveTo>
                <a:lnTo>
                  <a:pt x="14148" y="8224"/>
                </a:lnTo>
                <a:lnTo>
                  <a:pt x="14148" y="15221"/>
                </a:lnTo>
                <a:lnTo>
                  <a:pt x="15436" y="15221"/>
                </a:lnTo>
                <a:lnTo>
                  <a:pt x="15436" y="16144"/>
                </a:lnTo>
                <a:lnTo>
                  <a:pt x="10284" y="16144"/>
                </a:lnTo>
                <a:lnTo>
                  <a:pt x="10284" y="15221"/>
                </a:lnTo>
                <a:lnTo>
                  <a:pt x="11572" y="15221"/>
                </a:lnTo>
                <a:lnTo>
                  <a:pt x="11572" y="9129"/>
                </a:lnTo>
                <a:lnTo>
                  <a:pt x="10284" y="9129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77720" y="304920"/>
          <a:ext cx="8040960" cy="5472000"/>
        </p:xfrm>
        <a:graphic>
          <a:graphicData uri="http://schemas.openxmlformats.org/drawingml/2006/table">
            <a:tbl>
              <a:tblPr/>
              <a:tblGrid>
                <a:gridCol w="8040960"/>
              </a:tblGrid>
              <a:tr h="54727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чий л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рет патри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 – человек, кото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юбит__________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ранит__________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ажает_________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живает______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дится________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могает________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_______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________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потому что не может быть равнодушным, потому что только активные действия патриота  сделают Родину процветающ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090080" y="5799240"/>
            <a:ext cx="71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тоящий патриот тот, кто чтит память о героях Отечеств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ет и уважает символы Государ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Дмитрий\Desktop\рисунки\110005186_pushkin.jpg"/>
          <p:cNvPicPr/>
          <p:nvPr/>
        </p:nvPicPr>
        <p:blipFill>
          <a:blip r:embed="rId1"/>
          <a:stretch/>
        </p:blipFill>
        <p:spPr>
          <a:xfrm>
            <a:off x="169920" y="160200"/>
            <a:ext cx="2235240" cy="270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Дмитрий\Desktop\рисунки\i (3).jpg"/>
          <p:cNvPicPr/>
          <p:nvPr/>
        </p:nvPicPr>
        <p:blipFill>
          <a:blip r:embed="rId2"/>
          <a:stretch/>
        </p:blipFill>
        <p:spPr>
          <a:xfrm>
            <a:off x="174600" y="3014640"/>
            <a:ext cx="2263680" cy="272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Дмитрий\Desktop\рисунки\i (4).jpg"/>
          <p:cNvPicPr/>
          <p:nvPr/>
        </p:nvPicPr>
        <p:blipFill>
          <a:blip r:embed="rId3"/>
          <a:stretch/>
        </p:blipFill>
        <p:spPr>
          <a:xfrm>
            <a:off x="3691080" y="201600"/>
            <a:ext cx="2157120" cy="26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Дмитрий\Desktop\рисунки\korin2.jpg"/>
          <p:cNvPicPr/>
          <p:nvPr/>
        </p:nvPicPr>
        <p:blipFill>
          <a:blip r:embed="rId4"/>
          <a:stretch/>
        </p:blipFill>
        <p:spPr>
          <a:xfrm>
            <a:off x="6218280" y="184320"/>
            <a:ext cx="2782800" cy="532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Дмитрий\Desktop\рисунки\i (5).jpg"/>
          <p:cNvPicPr/>
          <p:nvPr/>
        </p:nvPicPr>
        <p:blipFill>
          <a:blip r:embed="rId5"/>
          <a:stretch/>
        </p:blipFill>
        <p:spPr>
          <a:xfrm>
            <a:off x="3227400" y="3014640"/>
            <a:ext cx="24163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89000" y="757080"/>
            <a:ext cx="21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ГИМ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3879720" y="304920"/>
            <a:ext cx="21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ГЕРБ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499080" y="8809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ФЛА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952640" y="234792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1927080" y="38797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1935000" y="53960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Дмитрий\Desktop\рисунки\i (7).jpg"/>
          <p:cNvPicPr/>
          <p:nvPr/>
        </p:nvPicPr>
        <p:blipFill>
          <a:blip r:embed="rId1"/>
          <a:stretch/>
        </p:blipFill>
        <p:spPr>
          <a:xfrm>
            <a:off x="3127320" y="1790640"/>
            <a:ext cx="1511280" cy="178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Дмитрий\Desktop\рисунки\i (6).jpg"/>
          <p:cNvPicPr/>
          <p:nvPr/>
        </p:nvPicPr>
        <p:blipFill>
          <a:blip r:embed="rId2"/>
          <a:stretch/>
        </p:blipFill>
        <p:spPr>
          <a:xfrm>
            <a:off x="2852640" y="4473720"/>
            <a:ext cx="1606680" cy="160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Дмитрий\Desktop\рисунки\i (8).jpg"/>
          <p:cNvPicPr/>
          <p:nvPr/>
        </p:nvPicPr>
        <p:blipFill>
          <a:blip r:embed="rId3"/>
          <a:stretch/>
        </p:blipFill>
        <p:spPr>
          <a:xfrm>
            <a:off x="5165640" y="1784520"/>
            <a:ext cx="1490760" cy="1847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Дмитрий\Desktop\рисунки\i (9).jpg"/>
          <p:cNvPicPr/>
          <p:nvPr/>
        </p:nvPicPr>
        <p:blipFill>
          <a:blip r:embed="rId4"/>
          <a:srcRect l="0" t="0" r="49263" b="0"/>
          <a:stretch/>
        </p:blipFill>
        <p:spPr>
          <a:xfrm>
            <a:off x="5076720" y="4502160"/>
            <a:ext cx="1719360" cy="1692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4"/>
          <p:cNvSpPr/>
          <p:nvPr/>
        </p:nvSpPr>
        <p:spPr>
          <a:xfrm>
            <a:off x="3492360" y="135108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5494320" y="14079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3435480" y="3871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618160" y="384660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3" descr=""/>
          <p:cNvPicPr/>
          <p:nvPr/>
        </p:nvPicPr>
        <p:blipFill>
          <a:blip r:embed="rId5"/>
          <a:stretch/>
        </p:blipFill>
        <p:spPr>
          <a:xfrm>
            <a:off x="1243080" y="2227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2" descr=""/>
          <p:cNvPicPr/>
          <p:nvPr/>
        </p:nvPicPr>
        <p:blipFill>
          <a:blip r:embed="rId6"/>
          <a:stretch/>
        </p:blipFill>
        <p:spPr>
          <a:xfrm>
            <a:off x="1260360" y="372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1" descr=""/>
          <p:cNvPicPr/>
          <p:nvPr/>
        </p:nvPicPr>
        <p:blipFill>
          <a:blip r:embed="rId7"/>
          <a:stretch/>
        </p:blipFill>
        <p:spPr>
          <a:xfrm>
            <a:off x="1308240" y="53481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510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263520" y="-943920"/>
            <a:ext cx="88804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Патриот </a:t>
            </a:r>
            <a:r>
              <a:rPr b="1" lang="ru-RU" sz="6000" spc="-1" strike="noStrike">
                <a:solidFill>
                  <a:srgbClr val="0000ff"/>
                </a:solidFill>
                <a:latin typeface="Calibri"/>
                <a:ea typeface="Times New Roman"/>
              </a:rPr>
              <a:t>–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человек, мысли и поступки которого направлены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на благо Отечества, благо своего народа, человек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который любит свою Родину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461880" y="611280"/>
            <a:ext cx="800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ина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ы опорой судьбы и души на добро дан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ина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то остался без Родины – жалок, убог..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ина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в тебе, ты во мне навсегда, моя Родина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ина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а хранит тебя, Родина, в радости Бог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11:37:25Z</dcterms:created>
  <dc:creator>Инна</dc:creator>
  <dc:description/>
  <dc:language>en-US</dc:language>
  <cp:lastModifiedBy>RePack by Diakov</cp:lastModifiedBy>
  <dcterms:modified xsi:type="dcterms:W3CDTF">2015-02-10T11:35:00Z</dcterms:modified>
  <cp:revision>17</cp:revision>
  <dc:subject/>
  <dc:title>Презентация PowerPoint</dc:title>
</cp:coreProperties>
</file>